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8978-A8F9-4BDD-9654-BDD77361A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6F9D-5176-4B80-AAAF-591F50436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738D-7373-4522-BCD1-157A3B0CB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B191-2E6E-42A3-A583-935390E85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DCEF-85D9-4D1A-A585-C43E172D1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6B31-9E75-45D1-A034-75EF3CF27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6CD0-D11C-48AB-ABCD-84C129D4B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B826-F55A-4FFB-A9A4-1300F6BB5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2E50-CB5D-4651-B4E8-9827DE281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9675-22C6-4A0C-B72A-9820C2FB6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0A50-E086-4045-B30D-E0C6B59A4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4A05-4FD7-44F5-8717-20BA49A74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9A83-7A26-4525-A217-F351EF31F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0654-00DA-44FA-920F-B3FF19DAC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CB3F-4285-4465-802A-97EF682B0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B98C-1A80-4E97-8A04-565D798EE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CDB0-3F70-40DF-8DD9-0F395592A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68C0-9E4B-481F-8636-EBCFFAC4E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9026-A164-4619-9FA5-8D2A85F73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63AB-EC74-4A3E-A193-F867535A2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7BEC-5295-456B-A17B-8B9AF6C8E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2744-B08B-4B0A-AF20-73F99C498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72B5-25DB-4C8B-91CC-F20AD34C8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D321-4ACE-4D4F-A13D-76B7A0812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FF3E-72C6-43E1-A87E-B0FEA25AF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F826-85BF-4BC6-B464-6C56BE44A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60A5-1AAD-4D45-BA8A-C21FD316F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1E18-4B99-445B-BFBC-96C7339D6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9628-5336-445D-8510-A1CA07EE8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E50E-4EF3-4F20-A494-A3CD77BCE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C6C9-2FA4-4622-8619-934CDFD5B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1D5B-1027-455A-BAA9-D64952181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5417-DAF8-4F86-9FE1-71B402048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40AA-5786-496F-94BA-CEFE4028A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3E3C-37D4-448C-AAC5-A03D1E6B3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8AE1-49D5-421E-AB7E-A4232E1E4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E927-6B38-461D-B6C0-B03AD1877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B20A-59E6-4982-AAEB-C1011A014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81D5-F6BC-4875-B653-CF77FFC05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E1A4-63FB-44F5-8C85-9F5926AE7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ED34-BDB4-4478-9F7A-78CE29030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D9E8-B547-4506-A47E-94562B4F2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A0B0-E95D-48EC-8679-056204033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6C92B-CFF0-4383-A23B-CB90494A3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6BC2A-B1FF-4FD0-9692-1EB6A7C6F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06DF6-EA6D-43EF-9D03-12337705B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30E8-DA21-4643-A8F0-C70CC46AC8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F50-2124-4641-88DB-143B9797A3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9492-F1F7-41FD-8B92-A395F69A2C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149-8EE4-484A-9103-586D74B3AA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B22C-E2E6-418F-80FE-1D1DB9EAB7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FDB-E8BF-4055-B063-9F732B776C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812-96D9-48F6-8FB6-1AB4570D7E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7FA4F-CC4E-4000-A53F-7B2ADE272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3EA-C259-49CB-A11F-377FB4B251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A9B9-0EA6-4B9F-92FE-C6FB4B79AB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86E-31C9-4AAB-AA57-8429EF5127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F28-24D5-4B61-B7E3-765943DE26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988-FC11-4CED-8777-BEC9A7AF20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EEFBF-F4E2-45BB-851E-DD57A0F0E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8268E-FA43-42A5-9DD6-5963C551E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10876-B35B-46BE-8BB6-FCD7CCA30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D9BE2-1402-491A-AEBB-5987BAB8A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152CB-DBE1-4A99-A32D-49EF5CDE4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338B7-5D44-49F4-924D-917AAA89C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17712-C9A9-4060-8C95-22C74A732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7D4B-4AF5-4C22-8C24-F6E643A4BD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87B9-0581-498E-896D-B44EA05C6B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677C-3DF2-48F4-8217-7A826B9220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6"/>
          <p:cNvSpPr/>
          <p:nvPr/>
        </p:nvSpPr>
        <p:spPr>
          <a:xfrm>
            <a:off x="3581280" y="182880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nuel Qualité, Structure et  Contenus – opti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7DAF-1969-4876-8E34-05447522F9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fs de poste incluant les qualification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ste d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ditions de recru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ternes et é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5898-9AD1-448B-908B-8012D47800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5. Contrôle de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pprobation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finaliser le document : vérification, impression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gestion de la confidenti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, archi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roduction de ra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iste des documents de référe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man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5F0B-27B6-4186-9D92-42D0B1E0DE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  <a:ea typeface="SimSun"/>
              </a:rPr>
              <a:t>6. Bâtiments et Environn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lan des bâtiment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ints d’accès réser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ignalétique du laboratoire ou autr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exigences environnementales pour le laboratoire (taille, température, eau, électricité, flux d’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é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ncertitudes tolér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57200" y="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34C6-8929-49C5-BB26-D32FC27B94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7. Gestion des instruments, réactifs et consomm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pécifier que chaque instrument requiert des procédures écrites, une maintenance et un contrôle de qualité spéc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ande et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sommables et fournitures – définir la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92C5-3438-4EC2-8B28-67B04A817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8. Sécur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échantillons et du maté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’incen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e dangers chi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limination des déch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é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iquetage du prod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E64B-9081-4325-87AF-DB82001DFD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9. Procédures pré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éparation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liquots et pré traitement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1C1E-10AE-4792-A229-C38872EAAC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0. Procédures d’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éactif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ibration / contrô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 d’analyse/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DFA7-6730-430D-BFAA-D91DF20AF8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1. Procédures post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nalyse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 biologique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ression/copie du compte-rendu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transmission du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lasser (archiver) le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ations avec les autorités de surveillance des mala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53F7-95DC-45B9-9939-01F2686B86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2. Contrôl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appel de l’engagement envers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ier aux procédures de contrô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équi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pétence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sumé de toutes les procédures de CQ et liens avec les sections appropriées du manu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61FC-B7F5-4C1B-9C38-1DDA121F02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3. Actions correctives/préventives, Audit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voir et comprendre tous les problèmes et les err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udits internes requis par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547A-8E6E-4E36-94EC-AB19A2C1D1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4804-946B-4B40-86D7-6A10E3E536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de la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qualité (spécifie les lignes de condu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structions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gistres/Enregist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17_docs_structure"/>
          <p:cNvPicPr/>
          <p:nvPr/>
        </p:nvPicPr>
        <p:blipFill>
          <a:blip r:embed="rId1"/>
          <a:stretch/>
        </p:blipFill>
        <p:spPr>
          <a:xfrm>
            <a:off x="5791320" y="2209680"/>
            <a:ext cx="30477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E18D-AFE1-44C8-A1A4-4B2B0F9922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Gestion d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24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 spécif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31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nu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34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iv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37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40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extes et lo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43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t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our éviter de surcharger l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ste documentation + numérot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ens aux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F712-744A-435D-8514-44EC34D4DD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n’ y a qu’UNE version officielle du manuel qua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anuel qualité n’est jamais fini, il est toujours amélio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lu, compris et accepté par to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rédigé clairement dans un langage facilement compréhen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daté et signé par la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s en têtes standardisés devraient être utilisés et la  version de chaque procédure insc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velopper un manuel qualité est un gros travail mais il est gratifiant et utile pour le laborato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E068-78B0-4BE5-B3A2-8447A45768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57440" y="6854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1430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E262-EF51-41A5-904C-6247C0E5F7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diger un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gence de la norme ISO15189, mais le style et la structure ne sont pas spécif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er un comité de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tablir des lignes de conduite pour chacun des douze points essent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ligne de conduite, mentionner les buts et désigner les responsabili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ntenu doit inclure les lignes de conduite et faire référence aux processus et procé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5385-E019-4D8E-A5F6-9AB4A01330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Exempl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  Manuel qu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sation et g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gnes de conduite qual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nel (éducation et form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documents, incluant les registres, la maintenance et l’archi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âtiments et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297F-ABCD-443B-9261-E58E1AB3B5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struments, réactifs, consom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écu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cherche et développement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(option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ré analy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ost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AF77-EF8D-4538-8BF5-7941B43415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ystème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plaintes – gestion des problè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s et autres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ons préventives et correctives, audits inter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BFFD-907B-4A82-9C57-9CF697D855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historique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hamp d’application du 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ises à jour du manu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.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ur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47DA-4818-47D2-9024-7513BBF6FB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on de l’organisa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té lég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xigences de 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ignement des responsabilités/auto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2. Organisation et 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7C95-8865-48ED-ACAD-98EFEF199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3. Ligne de conduit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claration officielle d’une ligne de conduite par la direc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ure que le directeur du laboratoire désignera un responsab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finit le laboratoi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dolmazonv</cp:lastModifiedBy>
  <dcterms:modified xsi:type="dcterms:W3CDTF">2010-04-08T14:50:49Z</dcterms:modified>
  <cp:revision>23</cp:revision>
  <dc:subject/>
  <dc:title>Example of Written Policy CLSI HS1</dc:title>
</cp:coreProperties>
</file>